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A93-15EB-4FDF-B73F-8FE8CEA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35E-9FB3-4D7C-92CA-F2FAB385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FD0-4496-4FFD-822A-9B6F21DF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04F-FC79-4299-980E-D22EE629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8A7-28BF-4924-8885-C98DF64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5C8E-D029-4BD9-A0B2-E2B96EA2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810-E43D-4C0D-A3C0-9F252AF8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ED06-DB75-45DD-85AE-734651A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89E8-8C4A-41F1-9890-502DC033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8861-E8DA-406F-884A-214A6906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27A-20BA-411D-A804-33537BD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A13-E95D-4517-AB55-C26B719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ED22-018E-4218-BDF4-DAC703A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48C6-5A4A-477A-B642-A5D59642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B142-B9A2-4655-AF56-2A57B06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D7E6-E5DC-4B0C-AB40-64BCC3E2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1C98-D99D-4012-A26F-D9930B67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AF90-B8F2-4B90-8DCA-59E2823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76D-C615-443A-979E-C9477850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62A-CA4B-4A45-8DD2-2C83513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93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EEF-DD42-4ADA-9C05-F772E4A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F800-A4F9-465B-A80D-7BAC877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EDE-2685-4A85-8A96-0214FDC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DBE-D6E7-49E6-9542-60EFCF6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803021-C4BB-465B-8834-2135AC1470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6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7E347B-FA86-465A-8050-555F2315770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5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Муниципальное обще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средняя общеобразовательная школа №5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954160" cy="392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7636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Arial"/>
              </a:rPr>
              <a:t>Ленская Екате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Христианские мотив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в рассказе Ф.М.Достоевского «Мальчик у Христа на ёлке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Цел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ние рассказа "Мальчик у Христа на елке" как святочного рассказа и выявление в нем христианских мотивов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9625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33"/>
                </a:solidFill>
                <a:latin typeface="Garamond"/>
              </a:rPr>
              <a:t>Задачи</a:t>
            </a:r>
            <a:br>
              <a:rPr sz="38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ыявить особенности жанра святочного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пределить место произведения в «святочном жанре» и контексте творчества пис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Определить христианские мотивы расск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Раскрыть тему детского страдания в расска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4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4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451"/>
              </a:spcBef>
              <a:buNone/>
              <a:tabLst>
                <a:tab algn="l" pos="0"/>
                <a:tab algn="l" pos="1141560"/>
                <a:tab algn="l" pos="2055960"/>
                <a:tab algn="l" pos="2970360"/>
                <a:tab algn="l" pos="3884760"/>
                <a:tab algn="l" pos="4799160"/>
                <a:tab algn="l" pos="5713560"/>
                <a:tab algn="l" pos="6627960"/>
                <a:tab algn="l" pos="7542360"/>
                <a:tab algn="l" pos="8456760"/>
                <a:tab algn="l" pos="9371160"/>
                <a:tab algn="l" pos="102855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Жанровое своеобразие святочного рассказа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38120" y="159984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Рождественский (святочный) рассказ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–  литературный жанр, относящийся к категории календарной литературы и характеризующийся определенной спецификой в сравнении с традиционным жанром расска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5660" t="0" r="9434" b="0"/>
          <a:stretch/>
        </p:blipFill>
        <p:spPr>
          <a:xfrm>
            <a:off x="457200" y="2057400"/>
            <a:ext cx="34290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отивы святочных рассказ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 «божественного дитя» - младенца, посланного на землю Богом для спасен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ль сверхъестественного, чуда, которое     происходит на Рожд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 «нравственного перерождения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ризнаки святочного рассказа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4197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ронологическая приуроч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элемента чудес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рассказ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среди героев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нравственного урока, мо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5257800" y="1600200"/>
            <a:ext cx="3525840" cy="45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33"/>
                </a:solidFill>
                <a:latin typeface="Garamond"/>
              </a:rPr>
              <a:t>Тема детского страдания в рассказе «Мальчик у Христа на ёлке»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 рассказе«Мальчик у Христа на елке» повествование о судьбе беспризорных детей вытекает в историю одного маль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ассказ начинается с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экспозици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из которой мы узнаем историю мальчика, некоторые подробности его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 начале рождественского рассказа создается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образ разоренного вертеп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итуация Рождества повторяется в ухудшенном вариа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Достоевский наглядно нам показывает: ничто не прошло, мы в своей жизни постоянно оказываемся перед событиями Евангельской истории. Господь постоянно надеется на нас - и мы столь же постоянно обманываем Его наде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Достоевский, с одной стороны, создает образ Петербурга, с другой - желает подчеркнуть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универсальный характер происходяще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 дети гибнут от холода и голода в любом российском 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о мысли писателя, дети живут как «некое указание нам», они - посланники Божии на земле. Эту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иде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оплощает автор, раскрывая удивительное влияние ребенка на взросл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Автор также использует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прием противопоставл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когда описывает сказочную елку у Хрис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Если на земной елке мальчик встречается с </a:t>
            </a:r>
            <a:r>
              <a:rPr b="1" i="1" lang="ru-RU" sz="1200" spc="-1" strike="noStrike">
                <a:solidFill>
                  <a:srgbClr val="006633"/>
                </a:solidFill>
                <a:latin typeface="Arial"/>
              </a:rPr>
              <a:t>бездуш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6633"/>
                </a:solidFill>
                <a:latin typeface="Arial"/>
              </a:rPr>
              <a:t>эгоизм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то на елке у Христа он попадает в атмосферу </a:t>
            </a:r>
            <a:r>
              <a:rPr b="1" i="1" lang="ru-RU" sz="1200" spc="-1" strike="noStrike">
                <a:solidFill>
                  <a:srgbClr val="006633"/>
                </a:solidFill>
                <a:latin typeface="Arial"/>
              </a:rPr>
              <a:t>любв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200" spc="-1" strike="noStrike">
                <a:solidFill>
                  <a:srgbClr val="006633"/>
                </a:solidFill>
                <a:latin typeface="Arial"/>
              </a:rPr>
              <a:t>учас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20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3704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ак, мы пришли к следующим вывод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первых, жанр святочного рассказа можно распознать по определенным признакам. Финалом в святочных рассказах была победа света над мраком, добра над з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-вторых, в рассказе Ф. М. Достоевского «Мальчик у Христа на елке» мотивы святочных рассказов представлены нам в </a:t>
            </a:r>
            <a:r>
              <a:rPr b="1" lang="ru-RU" sz="1200" spc="-1" strike="noStrike" u="sng">
                <a:solidFill>
                  <a:srgbClr val="006633"/>
                </a:solidFill>
                <a:uFillTx/>
                <a:latin typeface="Arial"/>
              </a:rPr>
              <a:t>измененном виде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, в образе главного героя отражается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моти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«божественного дитя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-  младенца Христа, не принятого ми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6633"/>
                </a:solidFill>
                <a:latin typeface="Arial"/>
              </a:rPr>
              <a:t>Второй мотив - мотив чудесног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язан в рассказе с ирреальным, с предсмертным видением замерзающего мальчика. Чудо здесь представлено явлением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т в рассказе и </a:t>
            </a:r>
            <a:r>
              <a:rPr b="1" lang="ru-RU" sz="1200" spc="-1" strike="noStrike" u="sng">
                <a:solidFill>
                  <a:srgbClr val="006633"/>
                </a:solidFill>
                <a:uFillTx/>
                <a:latin typeface="Arial"/>
              </a:rPr>
              <a:t>мотива «нравственного перерождения героев»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есь в образе героя никто не хочет узнать младенца Христа. Ребенок встречается с удивительным равнодушием со стороны взросл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31632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49528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наконец, рассказ «Мальчик у Христа на елке» сопряжен, с одной стороны, с </a:t>
            </a: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тем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ниженных и оскорбленных, а с другой - с философско-символической </a:t>
            </a:r>
            <a:r>
              <a:rPr b="1" lang="ru-RU" sz="1600" spc="-1" strike="noStrike">
                <a:solidFill>
                  <a:srgbClr val="006633"/>
                </a:solidFill>
                <a:latin typeface="Arial"/>
              </a:rPr>
              <a:t>проблем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заслуженных и не подлежащих оправданию безвинных страданий детей. Реальность происходящего подчеркивает с одной стороны образ автора рассказчика, а с другой – воссозданный образ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0" t="0" r="0" b="3440"/>
          <a:stretch/>
        </p:blipFill>
        <p:spPr>
          <a:xfrm>
            <a:off x="5076720" y="907920"/>
            <a:ext cx="3726000" cy="513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1T11:00:5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